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E37-5CDE-40D2-8973-E03E237B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CA3-7CFD-4DCB-AC4D-4F6A7DDF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EF0-50E8-4A3D-8CEC-C84F6AAE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EAE-03CA-4FF7-85E5-BE8CBFD5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29C7-7DA0-4FE0-B18D-C888F751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9913-A23C-4831-B698-2CBA156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960-3A04-42FD-8622-7D94865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2335-937C-4DE0-AEE8-4B0FB85C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8161-23E9-4433-829A-5026B6EA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7F7-FE63-4914-B87D-7019BAD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4E9A-37E1-43BD-893B-BAC2954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903-7E5F-43FC-9F81-91906005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923D-6E7E-480C-88AD-C9026B6F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9D51-CF8C-4715-8FA4-7692D97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069-2228-485C-9804-3F435E3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3EB8-6D44-4603-BFD5-9C4D8853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FC9-3169-424D-894F-563DC955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D46-657D-4071-80C1-FADC1A9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BB0-1A12-422B-9554-32064FE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1C6-618C-46B1-A40E-6474C186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5E5-CFF0-46EB-9CD9-99E7644C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04F-AED6-4E9C-AF31-26E54E26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E34-0123-4BC4-AA69-AD417A2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BAD-7A54-4F5C-9C66-A318031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FCA-DFF3-4059-B27E-2162113BC01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651-F786-44AD-BC18-3829FF0A943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Chalkboar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sdsu.edu/adapting/index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n.pacbell.com/wired/fil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clasciproject.com/Chem2006/WEBQUEST%20TEMPLATE.doc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org/index.ph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eachersfirst.com/summer/webquest/quest-b.shtml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microsoft.com/education/designwebquest.mspx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thirteen.org/edonline/concept2class/webquests/index.html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tcnj.edu/~caties/documents/WebQuests.pdf" TargetMode="External"/><Relationship Id="rId11" Type="http://schemas.openxmlformats.org/officeDocument/2006/relationships/image" Target="../media/image2.png"/><Relationship Id="rId12" Type="http://schemas.openxmlformats.org/officeDocument/2006/relationships/hyperlink" Target="http://surfaquarium.com/presentations/webquest.pdf" TargetMode="External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cationworld.com/a_issues/chat/chat015.shtml" TargetMode="External"/><Relationship Id="rId3" Type="http://schemas.openxmlformats.org/officeDocument/2006/relationships/hyperlink" Target="http://www.educationworld.com/a_issues/chat/chat015.shtml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educationworld.com/a_tech/tech/tech011.s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bestwebquests.com/what_webquests_are.asp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bestwebquests.com/tips/red_flags.asp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webquestdirect.com.au/whatis_articles2.asp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webquest.sdsu.edu/roadmap/index.htm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projects.edtech.sandi.net/staffdev/tpss99/tasksimap/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www.emsb.qc.ca/recit/workshops/wq/sld001.htm" TargetMode="External"/><Relationship Id="rId1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cdsb.on.ca/d&amp;g/DP/main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annettelamb.com/tap/topic4.htm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rubistar.4teachers.org/index.php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wba.k12.nc.us/techtrac/plus/muckinhoupt/" TargetMode="External"/><Relationship Id="rId2" Type="http://schemas.openxmlformats.org/officeDocument/2006/relationships/hyperlink" Target="http://harmony2.millersville.edu/webquest/summer2004/ahoward/PeriodicTable/Intro.html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" Target="slide12.xml"/><Relationship Id="rId7" Type="http://schemas.openxmlformats.org/officeDocument/2006/relationships/image" Target="../media/image2.png"/><Relationship Id="rId8" Type="http://schemas.openxmlformats.org/officeDocument/2006/relationships/slide" Target="slide13.xml"/><Relationship Id="rId9" Type="http://schemas.openxmlformats.org/officeDocument/2006/relationships/image" Target="../media/image2.png"/><Relationship Id="rId10" Type="http://schemas.openxmlformats.org/officeDocument/2006/relationships/slide" Target="slide14.xml"/><Relationship Id="rId11" Type="http://schemas.openxmlformats.org/officeDocument/2006/relationships/image" Target="../media/image2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WebQuests in Science</a:t>
            </a:r>
            <a:br>
              <a:rPr sz="6600"/>
            </a:b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5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"/>
              </a:rPr>
              <a:t>Teaching With Technology</a:t>
            </a:r>
            <a:endParaRPr b="0" lang="en-US" sz="44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esenter: Andrea Dorm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apture their attention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preview the assig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ually contai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background info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motivational scenarios (ex. You are an astronaut planning a trip to the moon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as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cribe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urpos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the activity and the end produc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oces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xplain the step-by-step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rategi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students will use to complete the task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ovid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link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pre-approved websites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an b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enhanc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with videos, posters, maps, models, manipulatives, and mor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Evalua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ws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ubric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/o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riteria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by which the project will be graded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Measures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sult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of the WebQues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andards should be fair, clean,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onsistent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, and specific to the tasks se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ums up the activit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ncourages students to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flect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on the project and their result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eacher Page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optional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page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t can include state and/or national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andard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for the lesson as well as suggestions on how to make the WebQuest more effective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4038480" y="5867280"/>
            <a:ext cx="1447920" cy="6098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So…Where Do You Star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irst question you need to ask yourself is…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uld I make a WebQuest or use  one I found on the Internet?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“</a:t>
            </a: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Don’t Reinvent the Wheel”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find a lot of already made WebQuests online with a little research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 have listed a few science examples on my CFF wikispace and have placed some helpful links at the end of this PowerPoin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Adapt an Existing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ometimes you can find a WebQuest that needs only minor adaptations.  Use the following website for ideas on how to modify it to best meet your needs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Adapting A 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Your Own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e a free online resource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Filamentalit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allows you many options in creating your WebQuest online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Achnolog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allows you to fill in the blanks and creates a WebQuest for you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Make sure to Save File onto your computer after creating it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s a WebQues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ebQuest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inquiry-orient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lesson format in which some or all of the information that students interact with comes from sources on the Interne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model was developed by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Bernie Dodg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t San Diego State University    in 1995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Word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reate a word document outlining all the 6 steps.  Include the websites on this docu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ollowing template could be helpful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Word Templat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PowerPoin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Create a PowerPoint with hyperlinks between page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You can use one of the following templates as a starting point to your PowerPoint WebQuest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mplate One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mplate Two 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halkboard"/>
              </a:rPr>
              <a:t>(Look for PowerQuest Template)</a:t>
            </a: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mplate Three 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to Hyperlin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on text or an object you would like to hyperlink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AutoShape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Go to “Insert” and then “Hyperlink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05320" y="4191120"/>
            <a:ext cx="176508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do you make a WebQues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hoose a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topic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hat you will be able to design a task around (one that has many websites &amp; resources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-609480">
              <a:spcBef>
                <a:spcPts val="799"/>
              </a:spcBef>
              <a:buClr>
                <a:srgbClr val="0033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Write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introduction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-609480">
              <a:spcBef>
                <a:spcPts val="799"/>
              </a:spcBef>
              <a:buClr>
                <a:srgbClr val="0033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ign you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task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4. Determine how you will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grad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he product and what the end result will look like.  (Rubrics are helpful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ign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roces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activities the students will have to complete.  (Step-by-step processes can be helpful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Chalkboar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nclude you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sourc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websites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Resources Used in This Presentation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Bernie Dodge’s Website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WebQuest 101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/>
              </a:rPr>
              <a:t>How to Design A 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8"/>
              </a:rPr>
              <a:t>Concept to Classroom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0"/>
              </a:rPr>
              <a:t>WebQuests: Teach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/>
              </a:rPr>
              <a:t>WebQuests: Grow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Interesting WebQuest Articles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Interview with Bernie Dodge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(Creator of WebQuests  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It’s Easier Than You Think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What WebQuests Are (Really)</a:t>
            </a:r>
            <a:r>
              <a:rPr b="0" lang="en-US" sz="900" spc="-1" strike="noStrike">
                <a:solidFill>
                  <a:srgbClr val="0033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9"/>
              </a:rPr>
              <a:t>7 Red Flags when Sifting Through 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1"/>
              </a:rPr>
              <a:t>WebQuest Direct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A List of Many WebQuest Articles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3"/>
              </a:rPr>
              <a:t>A Road Map For Designing 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PowerPoint by Bernie Dodge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5"/>
              </a:rPr>
              <a:t>WebQuest Taskonom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7"/>
              </a:rPr>
              <a:t>21st Century Skills in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e-Made WebQuest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WebQuest Locat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Find Pre-Mad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Teacher Tap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Locate and Evaluat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/>
              </a:rPr>
              <a:t>Rubistar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Chalkboard"/>
              </a:rPr>
              <a:t> Rubric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/>
          </p:cNvPr>
          <p:cNvSpPr/>
          <p:nvPr/>
        </p:nvSpPr>
        <p:spPr>
          <a:xfrm>
            <a:off x="1373760" y="190512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3b004"/>
                </a:solidFill>
                <a:uFillTx/>
                <a:latin typeface="Arial"/>
              </a:rPr>
              <a:t>Let’s Look At An Example!!!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>
            <a:hlinkClick r:id="rId2"/>
          </p:cNvPr>
          <p:cNvSpPr/>
          <p:nvPr/>
        </p:nvSpPr>
        <p:spPr>
          <a:xfrm>
            <a:off x="2669400" y="36576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4a00"/>
                </a:solidFill>
                <a:uFillTx/>
                <a:latin typeface="Arial"/>
              </a:rPr>
              <a:t>Here is Another One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8880" y="4191120"/>
            <a:ext cx="800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Group Projec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Web-based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Open-Ended Questions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igher-Level Think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udent Centered (Teacher Facilitated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llaborativ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21st Century Learn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 NOT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“Scavenger Hunt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Repor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Question with a Predefined Answ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ay to Teach Factual Inform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are the benefits of WebQuests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amount of information available will grow at an accelerating pace; much of it will come directly from a growing number of sources without filtering or verification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omorrow’s workers will need to be able to work in team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elp to create a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lifelong process of learning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, honoring multiple perspectives and evaluating information before acting on it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mbines a list of sequential steps and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re-selected websit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This allows for a controlled research enviro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does this benefit you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r classroom becom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udent center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facilitate learning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instead of lecturing or directing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watch all students succeed since this type of teaching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upports all learner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Basic Layou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 action="ppaction://hlinksldjump"/>
              </a:rPr>
              <a:t>Introduc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 action="ppaction://hlinksldjump"/>
              </a:rPr>
              <a:t>Task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 action="ppaction://hlinksldjump"/>
              </a:rPr>
              <a:t>Proces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8" action="ppaction://hlinksldjump"/>
              </a:rPr>
              <a:t>Evalu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0" action="ppaction://hlinksldjump"/>
              </a:rPr>
              <a:t>Conclus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(optional)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 action="ppaction://hlinksldjump"/>
              </a:rPr>
              <a:t>Teacher Pag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8:11:24Z</dcterms:created>
  <dc:creator>Andrea Dormer</dc:creator>
  <dc:description/>
  <dc:language>en-US</dc:language>
  <cp:lastModifiedBy>Andrea Dormer</cp:lastModifiedBy>
  <dcterms:modified xsi:type="dcterms:W3CDTF">2008-03-04T03:27:49Z</dcterms:modified>
  <cp:revision>30</cp:revision>
  <dc:subject/>
  <dc:title>Webquests in Science </dc:title>
</cp:coreProperties>
</file>